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602D-E31A-4846-85F2-F362E17D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712F-68CB-473F-AF82-C833976C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566-2F63-4CF9-8E37-9CF6737A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D9E-5EAB-447A-AF00-B917A5B9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00E6-CD5F-493E-A476-77BBB854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67AB-8515-49CA-A45C-8FCA7131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9225-FA25-4B17-A7BB-A56E7960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A58B-6F74-4C56-BB15-9672B95D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B798-F80E-494F-86C9-5D9D92D2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6103-663F-40E4-BE02-22CF8832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2599-E8BE-4EE9-B89C-B50B8213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5B3-FD61-485F-A6FE-D8061296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70CC-2226-407B-8FEF-05B8D5BA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216D-84AF-49A2-A330-31533234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6C9A-1459-480B-A23C-35D68CE0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36A1-8A52-4020-A495-3B959645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4173-0B64-4693-BAD6-4E991D5A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C7F-0DFB-433F-93FC-721BD395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EEF-1F8F-4968-959B-A14DFA67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CCBF-8D50-4331-AA58-874C7B58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BF4-E565-4279-8EF6-AF3A5D1D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C3AC-A6FE-4D60-82C9-86C3C0B3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0CD-6718-4DE8-BD47-595A0F4D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ACD-AAFA-4142-BECE-44579E73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0D85-FD11-4940-B3F3-482480EF479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CC3C-F132-4AA6-9BEF-668D2ECEF3B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tourismguide.ro/galerie-foto-orasul-baile-tusnad-depresiunea_ciucului.html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tourismguide.ro/galerie-foto-orasul-baile-tusnad-lacul_sfanta_ana.html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tourismguide.ro/galerie-foto-orasul-baile-tusnad-sculpturi_din_lemn.html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www.tourismguide.ro/galerie-foto-orasul-baile-tusnad-parc_baile_tusnad.html" TargetMode="External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infotravelromania.ro/foto%20mic/romania/bucovina/manastiri/sucevita_manastire/intrare_manastireascevita.jpg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2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hyperlink" Target="http://www.iturism.ro/imagini/xl/image_10748.jpg" TargetMode="External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ETAPELE DE CONCEPERE A UNUI PRODUS TURISTIC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ap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ategorii de produse turist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4176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11280" y="5589720"/>
            <a:ext cx="8064360" cy="934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Times New Roman"/>
              </a:rPr>
              <a:t>CIRCUITE,SEJURURI(PACHETE DE VACANTA),CROAZIE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Times New Roman"/>
              </a:rPr>
              <a:t>PRODUSE TEMA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Statiuni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exempl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2 de statiuni balneare, respectiv 32 de statiuni turist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ara( judetul Ialomita), Busteni(judetul Prahova), Buzias(judetul Timis), Baile Felix(judetul Bihor), Baile Hercula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deal(judetul Brasov), Saturn(judetul Contanta), Sinaia(judetul Prahova), Singeorz-Bai(judetul Bistrita-Nasaud), Slanic Moldova(judetul Bcau), Sovata( judetul Mures), Tîrgu Ocna(judetul Bacau), Techirghio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Sejur la Baile Tusn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lec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 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Romania, Braso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stinati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 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Romania, Baile Tusn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50 LE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/ 6 zi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nsport:transport autoc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z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nsiune ** camere sing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s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mipensiu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scriere:Vã asteptãm la pensiunea Varteto, din Bãile Tusnad, de Revelion!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agini din statiu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Poze Baile Tusnad | Depresiunea Ciuculu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1557360"/>
            <a:ext cx="3673440" cy="2158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Poze Baile Tusnad | Lacul Sfanta Ana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6360" y="1628640"/>
            <a:ext cx="3743280" cy="2087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Poze Baile Tusnad | Sculpturi din lemn Baile Tusnad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5280" y="3933720"/>
            <a:ext cx="3960720" cy="2159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Poze Baile Tusnad | Parc Baile Tusnad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43280" y="4005360"/>
            <a:ext cx="403236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Turul Manastirilor Din Moldo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ucuresti – Buzau – Focsani – Panciu – Marasesti – Tecuci – Vaslui – Iasi – Cotnari – Ipotesti – Suceava - Ciprian Porumbescu - Gura Humorului - Targu Neamt - Piatra Neamt - Miercurea Ciuc – Brasov - Rasnov – Bran - Sinaia- Bucure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Descopera Manastirile Moldovei"/>
          <p:cNvPicPr/>
          <p:nvPr/>
        </p:nvPicPr>
        <p:blipFill>
          <a:blip r:embed="rId3"/>
          <a:stretch/>
        </p:blipFill>
        <p:spPr>
          <a:xfrm>
            <a:off x="4643280" y="1484280"/>
            <a:ext cx="3961080" cy="2232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4572000" y="4005360"/>
            <a:ext cx="4103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MANASTIRI  DIN MOLDOV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Manastirea  Sucevita decembrie 200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628640"/>
            <a:ext cx="4105440" cy="2087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manastirea Voronet 2006"/>
          <p:cNvPicPr/>
          <p:nvPr/>
        </p:nvPicPr>
        <p:blipFill>
          <a:blip r:embed="rId7"/>
          <a:stretch/>
        </p:blipFill>
        <p:spPr>
          <a:xfrm>
            <a:off x="4643280" y="1557360"/>
            <a:ext cx="4032360" cy="2158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Mănăstirea Humor"/>
          <p:cNvPicPr/>
          <p:nvPr/>
        </p:nvPicPr>
        <p:blipFill>
          <a:blip r:embed="rId8"/>
          <a:stretch/>
        </p:blipFill>
        <p:spPr>
          <a:xfrm>
            <a:off x="324000" y="3860640"/>
            <a:ext cx="4103640" cy="2571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Mănăstirea Sucevita"/>
          <p:cNvPicPr/>
          <p:nvPr/>
        </p:nvPicPr>
        <p:blipFill>
          <a:blip r:embed="rId9"/>
          <a:stretch/>
        </p:blipFill>
        <p:spPr>
          <a:xfrm>
            <a:off x="4572000" y="3933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ccecff"/>
                </a:solidFill>
                <a:latin typeface="Times New Roman"/>
              </a:rPr>
              <a:t>TURUL MANASTIRILOR SI BISERICILOR DIN ZONA SNAGOV</a:t>
            </a:r>
            <a:r>
              <a:rPr b="0" lang="pt-BR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iective majore 3 vechi manastiri foarte diferite: una cu maici, a doua izolata pe o insula (un staret), a treia cu calugar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serica din Ciofliceni, Biserica din Ghermanesti, Biserica din Snagov-Sat.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urata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et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: 68 EURO sau 240 RON/persoana. 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Include: 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- ghid pe toata durata circuitului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- transport cu autocarul Bucuresti-Tiganesti-Snagov-Caldarusani-Bucuresti - taxe de intrare la cele 3 manastiri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- transportul pe apa la Manastirea Vlad Tepes cu vaporasul (circa 2 x 20 min)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- refreshment si pranz (la restaurant sau pe vaporas)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Grup: minim 30 persoan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agini din Snago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Snagov | Galerie Foto Orasul Snagov"/>
          <p:cNvPicPr/>
          <p:nvPr/>
        </p:nvPicPr>
        <p:blipFill>
          <a:blip r:embed="rId4"/>
          <a:stretch/>
        </p:blipFill>
        <p:spPr>
          <a:xfrm>
            <a:off x="539640" y="1628640"/>
            <a:ext cx="3961080" cy="2019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Snagov | Informatii utile Snagov"/>
          <p:cNvPicPr/>
          <p:nvPr/>
        </p:nvPicPr>
        <p:blipFill>
          <a:blip r:embed="rId5"/>
          <a:stretch/>
        </p:blipFill>
        <p:spPr>
          <a:xfrm>
            <a:off x="4788000" y="1628640"/>
            <a:ext cx="3816360" cy="201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Obiective Turistice Orasul Snagov | Galerie foto"/>
          <p:cNvPicPr/>
          <p:nvPr/>
        </p:nvPicPr>
        <p:blipFill>
          <a:blip r:embed="rId7"/>
          <a:stretch/>
        </p:blipFill>
        <p:spPr>
          <a:xfrm>
            <a:off x="539640" y="3933720"/>
            <a:ext cx="3888000" cy="2232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Cazare Snagov | Poze unitati cazare Snagov "/>
          <p:cNvPicPr/>
          <p:nvPr/>
        </p:nvPicPr>
        <p:blipFill>
          <a:blip r:embed="rId8"/>
          <a:stretch/>
        </p:blipFill>
        <p:spPr>
          <a:xfrm>
            <a:off x="4643280" y="3860640"/>
            <a:ext cx="4105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ipuri de croazie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rea Caraibelor, Marea Mediterana, Alaska si Europa ,croaziere pe N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roazierele temati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trag calatori dintr-o gama mare de varsta si de aceea pietele tinta variaza in functie de tematica croazierei. Multe teme se bazeaza pe activitati sau destinatii care pot fi vizitate in timpul croazierei , cum ar fi artele, dansul sau golful. Calatorii tind sa fie modesti, singuratici sau seniori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ROAZIERE PE NI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GIPT-TARAMUL FARAONILO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GIPT –MAGIA NILULU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GIPT-MISTERUL PIRAMIDELO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GIPT-SECRETUL SFINXULU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GIPT-MISTERELE NUBIE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1.CULEGEREA INFORMATIILOR DESPRE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ere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venituri,timp liber,varsta,categorie socioprofesional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erta concurentei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produsele turistice oferite,preturile si tarifele practicat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ponenet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cluse in propria oferta:obiective,baza tehnico-material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IMAGINI,EGIP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Turism Egipt - Croaziera pe Nil"/>
          <p:cNvPicPr/>
          <p:nvPr/>
        </p:nvPicPr>
        <p:blipFill>
          <a:blip r:embed="rId4"/>
          <a:stretch/>
        </p:blipFill>
        <p:spPr>
          <a:xfrm>
            <a:off x="395280" y="1484280"/>
            <a:ext cx="4032360" cy="2089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Circuit Egipt"/>
          <p:cNvPicPr/>
          <p:nvPr/>
        </p:nvPicPr>
        <p:blipFill>
          <a:blip r:embed="rId5"/>
          <a:stretch/>
        </p:blipFill>
        <p:spPr>
          <a:xfrm>
            <a:off x="4572000" y="1484280"/>
            <a:ext cx="4103640" cy="223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611280" y="3933720"/>
            <a:ext cx="3744720" cy="2232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4716360" y="4005360"/>
            <a:ext cx="410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2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SEE TURISTICE SPECIFICE MARAMURESULU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seul Bisericilor de lemn: Deseşti - Ieud - Bogdan Vodă - Bârsana - Giuleşi - Budeşti - Fereşti - Vadu Izei - Rozavlea - Rogoz sau pe ruta Sighetu Marmaţiei - Vadu Izei - Fereşti - Corneşti - Călineşti - Sârbi - Sat Şugatag Mânăstire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urul staţiunilor balneo-climaterice : Ocna Şugatag - Băile Cărbunari - Băile Dăneşti - Băile Botiza - Băile Borşa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755640" y="1628640"/>
            <a:ext cx="3672000" cy="2016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4859280" y="1557360"/>
            <a:ext cx="3745080" cy="2158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468360" y="3860640"/>
            <a:ext cx="4032360" cy="23050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8"/>
          <a:stretch/>
        </p:blipFill>
        <p:spPr>
          <a:xfrm>
            <a:off x="4643280" y="3933720"/>
            <a:ext cx="3889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Oferte de lit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elion 2008 la Hotel Europa 4* in Eforie Nord!!!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urata: 3 zile 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port: la cerere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zare: Hotel ****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sa inclusa : mic dejun 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erta valabila:pana in Ianuarie 2008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egorie oferta : Revelion 2008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ioada30.12.2007-02.01.2008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tul 1110RONNota : Preturile sunt pentru o persoana/seju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34560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Turul cetatilor medieva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ucuresti – Brasov – Prejmer – Rupea – Sigisoara – Biertan – Medias – Sibiu – Bucure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Transilvania-Cetati Medievale"/>
          <p:cNvPicPr/>
          <p:nvPr/>
        </p:nvPicPr>
        <p:blipFill>
          <a:blip r:embed="rId2"/>
          <a:stretch/>
        </p:blipFill>
        <p:spPr>
          <a:xfrm>
            <a:off x="4643280" y="1700280"/>
            <a:ext cx="410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Exemple de obiective turistice medieval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395280" y="1700280"/>
            <a:ext cx="4032360" cy="18730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042920" y="3357720"/>
            <a:ext cx="2952720" cy="28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RUPEA-CETATEA DACI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4716360" y="1628640"/>
            <a:ext cx="3959280" cy="20876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859280" y="3429000"/>
            <a:ext cx="37450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BIERTAN-BIS.FORTIFIC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395280" y="3933720"/>
            <a:ext cx="4032360" cy="2087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68360" y="5805360"/>
            <a:ext cx="4032360" cy="28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SIBIU-ORASUL VECH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88000" y="3789360"/>
            <a:ext cx="4105080" cy="244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859280" y="5805360"/>
            <a:ext cx="42847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SIGHISOARA-CE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1.CULEGEREA INFORMATIILOR DESPRE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ere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venituri,timp liber,varsta,categorie socioprofesional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erta concurentei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produsele turistice oferite,preturile si tarifele practicat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ponenet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cluse in propria oferta:obiective,baza tehnico-material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Selectarea obiectivelo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turistice,serviciilor oferite si unitatile prestatoare in functie de tipologia clientelei si particularitatile cererii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3.Combinarea si asamblarea componentelor produsului turistic-orgnizare preliminar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ur-operatorul aleg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tinati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jlocul de transpor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itatile de cazare,unitatile de alimentati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te servicii incluse in pache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4.Asigurarea serviciilor pe parcursul calatorie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gentia de turism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ie contracte ,conventii cu prestatorii directi de servicii turistic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ite comenzi de rezervar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 intocmi programul turistic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5.Determinarea calcului produsului turisti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aliza de pr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va contin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stul serviciilor de baza:transport,cazare,alimentati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stul serviciilor suplimentar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is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.V.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.S.D.P.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6.Promovarea produsului turisti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ealizarea si distribuirea brosurilor,pliantelor,afiselor turistic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ass-medi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7.Lansarea produsului turistic pe piat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n sir de actiuni prin care produsele turistice se fac cunoscute atat pe plan local cat si nationa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00:44:58Z</dcterms:created>
  <dc:creator>moni</dc:creator>
  <dc:description/>
  <dc:language>en-US</dc:language>
  <cp:lastModifiedBy>moni</cp:lastModifiedBy>
  <dcterms:modified xsi:type="dcterms:W3CDTF">2007-10-24T23:26:20Z</dcterms:modified>
  <cp:revision>14</cp:revision>
  <dc:subject/>
  <dc:title>ETEPELE DE CONCEPERE A UNUI PRODUS TURISTIC</dc:title>
</cp:coreProperties>
</file>